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9144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78C5-28C4-43D5-A4F2-430B6A96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615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5507640"/>
            <a:ext cx="615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3A46-5593-406A-874C-A402ACFD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550764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550764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515D-7912-4ED7-B2BB-DD5AFDA0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264168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264168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550764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550764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5507640"/>
            <a:ext cx="1981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9078-C880-4595-BF36-52261599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2641680"/>
            <a:ext cx="6153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33C8-97A1-4107-9800-01662241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615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B0E5-4495-484C-8A5B-225A8604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300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2641680"/>
            <a:ext cx="300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391E-2B27-4440-A763-7B3023DDC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0D13-757B-4957-82A6-D093E990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812520"/>
            <a:ext cx="6153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90BE-090A-4333-8A3E-AFE7D50C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2641680"/>
            <a:ext cx="300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550764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689D-6299-48EA-8B74-841015F3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300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550764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09A-499D-4F2F-8EBC-DC2E0713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2641680"/>
            <a:ext cx="300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5507640"/>
            <a:ext cx="6153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8C24-C26D-4D43-8498-14193F74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81252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2641680"/>
            <a:ext cx="615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8331120"/>
            <a:ext cx="1508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8331120"/>
            <a:ext cx="2292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8331120"/>
            <a:ext cx="1508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6116-91A5-449E-AEB2-96AD796A415C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5029200" y="572616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76920" y="701028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97120" y="2800440"/>
            <a:ext cx="22320" cy="28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5022720" y="426708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282564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368000" y="4267080"/>
            <a:ext cx="78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368000" y="8400960"/>
            <a:ext cx="78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010120" y="845820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86280" y="554976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0440" y="4133880"/>
            <a:ext cx="84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1920" y="1123920"/>
            <a:ext cx="2897280" cy="6904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國               軍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29400" y="1143000"/>
            <a:ext cx="125892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救援部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1920" y="2509920"/>
            <a:ext cx="2897280" cy="6904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應變中心編成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352520" y="2859120"/>
            <a:ext cx="78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1920" y="3895560"/>
            <a:ext cx="2897280" cy="69876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災情蒐整及研判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0600" y="3935520"/>
            <a:ext cx="1258920" cy="576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地方政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及  廠  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3911760"/>
            <a:ext cx="1258920" cy="576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資 料 庫 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一線部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25588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51520" y="25210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戒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39304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查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51520" y="38098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確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31920" y="5289480"/>
            <a:ext cx="2897280" cy="698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諮詢與指導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0600" y="5315040"/>
            <a:ext cx="1258920" cy="576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工研院、環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署 諮 詢 顧 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29400" y="5295960"/>
            <a:ext cx="125892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陸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諮詢小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51520" y="520056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指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1920" y="6683400"/>
            <a:ext cx="2897280" cy="69840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完成作業準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0600" y="6694560"/>
            <a:ext cx="1258920" cy="576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中央災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應變中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29400" y="6680160"/>
            <a:ext cx="125892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支援中心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現場指揮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28840" y="53020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協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1920" y="8077320"/>
            <a:ext cx="2897280" cy="690480"/>
          </a:xfrm>
          <a:prstGeom prst="rect">
            <a:avLst/>
          </a:prstGeom>
          <a:gradFill rotWithShape="0">
            <a:gsLst>
              <a:gs pos="0">
                <a:srgbClr val="99ff99"/>
              </a:gs>
              <a:gs pos="100000">
                <a:srgbClr val="46754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展開應援作業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0600" y="8074080"/>
            <a:ext cx="1258920" cy="57636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地方災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應變中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29400" y="8064360"/>
            <a:ext cx="125892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任務部隊馳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後續部隊增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28840" y="807732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支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52960" y="812160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管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52960" y="842652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247680"/>
            <a:ext cx="4665600" cy="609480"/>
          </a:xfrm>
          <a:prstGeom prst="rect">
            <a:avLst/>
          </a:prstGeom>
          <a:solidFill>
            <a:srgbClr val="3333cc"/>
          </a:soli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00"/>
                </a:solidFill>
                <a:latin typeface="Times New Roman"/>
                <a:ea typeface="超研澤粗楷"/>
              </a:rPr>
              <a:t>毒化災害應變作業程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0600" y="2556000"/>
            <a:ext cx="1258920" cy="576000"/>
          </a:xfrm>
          <a:prstGeom prst="roundRect">
            <a:avLst>
              <a:gd name="adj" fmla="val 2083"/>
            </a:avLst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環保署、消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署與地方政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0600" y="1176480"/>
            <a:ext cx="1258920" cy="576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a886a8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政府機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9400" y="2527200"/>
            <a:ext cx="1258920" cy="576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a8a8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作   戰   區  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地區責任部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051520" y="422424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349280" y="7010280"/>
            <a:ext cx="78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22360" y="6673680"/>
            <a:ext cx="66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請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41800" y="666108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指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19440" y="47242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19440" y="610560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00360" y="32767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19440" y="750564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71600" y="5638680"/>
            <a:ext cx="78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57640" y="56833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5:02:09Z</dcterms:created>
  <dc:creator>chem3-3</dc:creator>
  <dc:description/>
  <dc:language>en-US</dc:language>
  <cp:lastModifiedBy>chem3-7</cp:lastModifiedBy>
  <dcterms:modified xsi:type="dcterms:W3CDTF">2001-10-06T07:53:04Z</dcterms:modified>
  <cp:revision>15</cp:revision>
  <dc:subject/>
  <dc:title>PowerPoint 簡報</dc:title>
</cp:coreProperties>
</file>